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28.png" ContentType="image/png"/>
  <Override PartName="/ppt/media/image4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png" ContentType="image/png"/>
  <Override PartName="/ppt/media/image11.png" ContentType="image/png"/>
  <Override PartName="/ppt/media/image48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chimes.wav" ContentType="audio/x-wav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69B-3C3C-4812-8F40-5829A720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02C-22F6-447B-BE03-B059360D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7B6-1D7F-4FC5-93CD-748C6F3F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C6C-E327-4EE7-96F7-3A014157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979B-0153-49AC-B49A-C998A6C6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BE19-456C-4D77-839D-EA411AF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EBF7-0059-4E0A-A351-BB5EC2DA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5DC8-1315-42B1-B502-A3EF1B9B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C70E-CD3E-4D42-839E-8FD3B178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43BF-0A5C-4486-92C0-256D1AE5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B26E-E28B-4BD1-B52A-D67696B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E26-A55C-412E-90C5-624A4061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8995-2EDA-4EE3-B42B-D011BA6A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4591-6E4B-45F0-92F8-9049A1E2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C5BC-A71E-4918-ADE5-C94268B4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128D-D2D0-4663-A8B4-C228FCE3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D8E7-83AD-4770-946B-3B0C6447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0F6A-27A3-4A75-A4A1-E208B069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9BB8-54FA-482A-AA73-353D477E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6D5C-10F6-4AAE-B3D4-54C16886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314C-4EE3-458B-9E92-C238854C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D6D1-5F1E-483A-8ED7-F9D0BC84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623-85E2-4CB6-AA08-936190F8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35E7-EBE5-4796-8150-6C09310E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8F98-DCA0-4E5A-A901-89622E93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5E10-9087-4007-8263-0AB34D24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DC2A-7194-43B7-BFAA-A15F4BF3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5B93-3B30-45FA-B5C0-0FC65A89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099A-D645-4D9F-A81A-E9DA85B1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90C0-EB66-445E-8A7A-79489569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1D56-4350-4210-96C5-E75FAC9B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747E-F0E8-45DC-8B88-1DA91D48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2489-A3BB-4BE4-AA4E-D27400B7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278-CBF2-4E40-A275-6A016FBD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7AF6C-031A-4CE1-BD7F-8BC9A94D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DCE02-BC06-4406-9BAE-579ECDFE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F22D-83A5-4407-B229-75572FF2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0220-7FC4-4338-8052-A4CE53F1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62E6-B85D-45DC-A282-942254A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172E9-D6A5-4B5F-B137-1223A659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96B6-F098-4DA4-9AEE-346B6D6C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35A9-D0F6-4892-85F9-F861C048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3336F-D02E-458A-98A1-F927A20E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A38-6519-40F0-81F9-000C7197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AE7-A643-488A-ADE1-260738F4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A01-D4F9-4F0B-AA6B-1509EFF3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CC8-3E86-4C78-A70A-7ABDC61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827-A632-46A7-9D50-DCB7443A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B404-83E3-4D90-9B5F-F60569411C40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F5F0-0603-467D-843C-A171DDE36144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3A4E-C73F-4B68-98C6-1A7D6F83204A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F108-FBF2-465D-A3BD-5FD435E3492F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hyperlink" Target="file:///&#1091;&#1087;&#1088;&#1091;&#1075;&#1072;&#1103;%20&#1080;%20&#1085;&#1077;&#1091;&#1087;&#1088;&#1091;&#1075;&#1072;&#1103;%20&#1076;&#1077;&#1092;&#1086;&#1088;&#1084;&#1072;&#1094;&#1080;&#1103;.sw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84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332000" y="0"/>
            <a:ext cx="700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. Явление тягот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547640" y="1268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Урок физики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1"/>
          <a:srcRect l="3997" t="1752" r="0" b="1596"/>
          <a:stretch/>
        </p:blipFill>
        <p:spPr>
          <a:xfrm>
            <a:off x="0" y="476280"/>
            <a:ext cx="1547640" cy="4032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Сила воздействия на тележку"/>
          <p:cNvPicPr/>
          <p:nvPr/>
        </p:nvPicPr>
        <p:blipFill>
          <a:blip r:embed="rId2"/>
          <a:stretch/>
        </p:blipFill>
        <p:spPr>
          <a:xfrm>
            <a:off x="6084720" y="4508640"/>
            <a:ext cx="3016440" cy="2412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Деформация тела при воздействии силы"/>
          <p:cNvPicPr/>
          <p:nvPr/>
        </p:nvPicPr>
        <p:blipFill>
          <a:blip r:embed="rId3"/>
          <a:stretch/>
        </p:blipFill>
        <p:spPr>
          <a:xfrm>
            <a:off x="3059280" y="4508640"/>
            <a:ext cx="3016080" cy="2412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Сложение сил_ лебедь-рак-щука1"/>
          <p:cNvPicPr/>
          <p:nvPr/>
        </p:nvPicPr>
        <p:blipFill>
          <a:blip r:embed="rId4"/>
          <a:stretch/>
        </p:blipFill>
        <p:spPr>
          <a:xfrm>
            <a:off x="0" y="4508640"/>
            <a:ext cx="3016080" cy="2412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7"/>
          <p:cNvSpPr/>
          <p:nvPr/>
        </p:nvSpPr>
        <p:spPr>
          <a:xfrm>
            <a:off x="3276720" y="2349360"/>
            <a:ext cx="58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делал, что мог, пусть другие сделают луч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 знаю, чем я могу казаться ми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амому себе я кажусь мальчи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грающим у моря, которому удалось найти более красивый камешек, чем друг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кеан неизвестного лежит передо м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аак Ньютон (1643-172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0"/>
            <a:ext cx="914400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является мерой взаимодействия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, как и скорость, является векторной величиной. Она характеризуется не только числовым значением и точкой приложения, но и направ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обозначается буквой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со стрелочкой, а ее модуль той же букв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без ст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сть великого английского ученого 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ьютона эта единица названа ньютоном (1Н). 1 кН=1000 Н, 1мН=0,00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4284720" y="2349360"/>
                <a:ext cx="398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2195640" y="4570560"/>
            <a:ext cx="53290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Спасибо за внимание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42" name="Picture 3" descr="учитель"/>
          <p:cNvPicPr/>
          <p:nvPr/>
        </p:nvPicPr>
        <p:blipFill>
          <a:blip r:embed="rId2"/>
          <a:stretch/>
        </p:blipFill>
        <p:spPr>
          <a:xfrm>
            <a:off x="395280" y="2924280"/>
            <a:ext cx="3203640" cy="36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Сила воздействия на тележку"/>
          <p:cNvPicPr/>
          <p:nvPr/>
        </p:nvPicPr>
        <p:blipFill>
          <a:blip r:embed="rId1"/>
          <a:stretch/>
        </p:blipFill>
        <p:spPr>
          <a:xfrm>
            <a:off x="755640" y="0"/>
            <a:ext cx="2592360" cy="20732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0" y="191628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вагонетки меняется под действием рук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6156360" y="0"/>
            <a:ext cx="2089080" cy="16714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5219640" y="1773360"/>
            <a:ext cx="39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и направление движения теннисного шарика меняется при взаимодействии с раке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5724720" cy="1906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835280" y="558972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ла, действующая на тело, может не только изменить скорость всего тела, но и отдельных его частей (в таких случаях говорят, что тела </a:t>
            </a:r>
            <a:r>
              <a:rPr b="0" lang="ru-RU" sz="1600" spc="-1" strike="noStrike" u="sng">
                <a:solidFill>
                  <a:srgbClr val="408080"/>
                </a:solidFill>
                <a:uFillTx/>
                <a:latin typeface="Times New Roman"/>
                <a:hlinkClick r:id="rId4"/>
              </a:rPr>
              <a:t>деформ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8436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– причина изменения скорости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8" descr="3"/>
          <p:cNvPicPr/>
          <p:nvPr/>
        </p:nvPicPr>
        <p:blipFill>
          <a:blip r:embed="rId1"/>
          <a:srcRect l="0" t="21939" r="0" b="1102"/>
          <a:stretch/>
        </p:blipFill>
        <p:spPr>
          <a:xfrm>
            <a:off x="2627280" y="2236680"/>
            <a:ext cx="6516720" cy="46213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9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Явление тяготения. Сила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7" descr=""/>
          <p:cNvPicPr/>
          <p:nvPr/>
        </p:nvPicPr>
        <p:blipFill>
          <a:blip r:embed="rId2"/>
          <a:srcRect l="34252" t="17035" r="13767" b="5882"/>
          <a:stretch/>
        </p:blipFill>
        <p:spPr>
          <a:xfrm>
            <a:off x="0" y="2133720"/>
            <a:ext cx="39736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{1375512A-1D8C-4492-A2A0-8A9B9E55BB99}"/>
          <p:cNvPicPr/>
          <p:nvPr/>
        </p:nvPicPr>
        <p:blipFill>
          <a:blip r:embed="rId2"/>
          <a:stretch/>
        </p:blipFill>
        <p:spPr>
          <a:xfrm>
            <a:off x="2843280" y="0"/>
            <a:ext cx="3057480" cy="4591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1"/>
          <p:cNvSpPr/>
          <p:nvPr/>
        </p:nvSpPr>
        <p:spPr>
          <a:xfrm>
            <a:off x="1258920" y="6093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1476360" y="458136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Исаак Ньютон (1643 – 172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0" y="50911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аак Ньютон сформулировал основные законы классической механики. Открыл закон всемирного тяготения, дал теорию движения небесных тел, создав основы небесной механики. Работы Ньютона намного опередили общий научный уровень е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04SC002"/>
          <p:cNvPicPr/>
          <p:nvPr/>
        </p:nvPicPr>
        <p:blipFill>
          <a:blip r:embed="rId1"/>
          <a:stretch/>
        </p:blipFill>
        <p:spPr>
          <a:xfrm>
            <a:off x="61920" y="603360"/>
            <a:ext cx="4846680" cy="33843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755640" y="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Примеры взаимного притяжения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0" descr="qqq"/>
          <p:cNvPicPr/>
          <p:nvPr/>
        </p:nvPicPr>
        <p:blipFill>
          <a:blip r:embed="rId2"/>
          <a:stretch/>
        </p:blipFill>
        <p:spPr>
          <a:xfrm>
            <a:off x="4500720" y="3484440"/>
            <a:ext cx="4646520" cy="33735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61920" y="3330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5335560" y="39211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Метеорны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http://www.proza.ru/pics/2012/07/15/815.jpg"/>
          <p:cNvPicPr/>
          <p:nvPr/>
        </p:nvPicPr>
        <p:blipFill>
          <a:blip r:embed="rId3"/>
          <a:stretch/>
        </p:blipFill>
        <p:spPr>
          <a:xfrm>
            <a:off x="4500720" y="579600"/>
            <a:ext cx="4646520" cy="2943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1"/>
          <p:cNvSpPr/>
          <p:nvPr/>
        </p:nvSpPr>
        <p:spPr>
          <a:xfrm>
            <a:off x="6661080" y="60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https://encrypted-tbn1.gstatic.com/images?q=tbn:ANd9GcTFDU50bNrCI9pM565ynWXCVanSsV6obTPD5LcHGrTqVsKMikaw"/>
          <p:cNvPicPr/>
          <p:nvPr/>
        </p:nvPicPr>
        <p:blipFill>
          <a:blip r:embed="rId4"/>
          <a:stretch/>
        </p:blipFill>
        <p:spPr>
          <a:xfrm>
            <a:off x="61920" y="4010040"/>
            <a:ext cx="4438800" cy="2954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1"/>
          <p:cNvSpPr/>
          <p:nvPr/>
        </p:nvSpPr>
        <p:spPr>
          <a:xfrm>
            <a:off x="82440" y="61009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Искусственный спутник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qq"/>
          <p:cNvPicPr/>
          <p:nvPr/>
        </p:nvPicPr>
        <p:blipFill>
          <a:blip r:embed="rId1"/>
          <a:stretch/>
        </p:blipFill>
        <p:spPr>
          <a:xfrm>
            <a:off x="0" y="0"/>
            <a:ext cx="4572000" cy="3684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{CB81405C-BD68-4A6F-AD8B-86C8970B6F67}"/>
          <p:cNvPicPr/>
          <p:nvPr/>
        </p:nvPicPr>
        <p:blipFill>
          <a:blip r:embed="rId2"/>
          <a:stretch/>
        </p:blipFill>
        <p:spPr>
          <a:xfrm>
            <a:off x="4500720" y="3932280"/>
            <a:ext cx="4643280" cy="29257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0" y="4076640"/>
            <a:ext cx="44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тяжение всех тел Вселенной друг к другу называется всемирным тягот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0" y="0"/>
            <a:ext cx="4572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, с которой Земля притягивает к себе тело, называется силой тяж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 тяжести направлена вертикально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6156360" y="1197000"/>
                <a:ext cx="1503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тяж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17928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1187280" y="982800"/>
            <a:ext cx="67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8:38:30Z</dcterms:created>
  <dc:creator>1</dc:creator>
  <dc:description/>
  <dc:language>en-US</dc:language>
  <cp:lastModifiedBy>Макаров</cp:lastModifiedBy>
  <dcterms:modified xsi:type="dcterms:W3CDTF">2012-11-20T07:13:41Z</dcterms:modified>
  <cp:revision>76</cp:revision>
  <dc:subject/>
  <dc:title>Слайд 1</dc:title>
</cp:coreProperties>
</file>